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FBF3-9EC8-4A73-933A-F1049C52B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A1A3-29CE-4E96-8274-E469DAF4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6E03-4B00-47FD-A12D-BB8505A94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1E05-3D5F-43A5-A82F-2E395EC90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2665-DF9B-4E08-AC25-9D567945F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177B-C8E1-4588-B70B-8949689C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9E33-D36F-4F3E-8C74-A9050AFC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3404-C857-4B90-B709-82C8BB52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72C1-0D10-4EE2-9C25-B8E27C7B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9C3F-64A5-40CC-86E9-4D3FB21A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4470-414A-4320-985C-23D07153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B915-7381-45D5-940F-ADD2ADF6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FCCC-DEED-443C-8680-176368C0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6503-9184-4735-B5E1-AE521EB7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5105-63A3-46B0-A68E-48610A5D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F0E8-36F5-4F29-9ACC-1C22405B9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94D0-C847-4D57-9EF6-09889A6B9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89CF-AC97-4A70-A5CD-1C5EE2B4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7E81-04B8-4667-98ED-3033A69B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9703-F256-41A7-8FDC-615F680D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1051-5229-4834-860E-739186DF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8F47-5E37-44F0-B6AE-A58D85D6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31BE-6B33-42DE-8B77-B8A9C5D7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EDF0-57DF-4015-910A-616E4875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AA1F-D020-4100-8742-ED982134C8C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542B-881E-4C67-A7D2-78825C9E0D9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biology.about.com/od/plantbiology/a/aa100507a.htm" TargetMode="External"/><Relationship Id="rId2" Type="http://schemas.openxmlformats.org/officeDocument/2006/relationships/hyperlink" Target="http://biology.about.com/od/plantbiology/a/aa100507a.htm" TargetMode="External"/><Relationship Id="rId3" Type="http://schemas.openxmlformats.org/officeDocument/2006/relationships/hyperlink" Target="http://www.emc.maricopa.edu/faculty/farabee/BIOBK/BioBookflowers.html" TargetMode="External"/><Relationship Id="rId4" Type="http://schemas.openxmlformats.org/officeDocument/2006/relationships/hyperlink" Target="http://www.emc.maricopa.edu/faculty/farabee/BIOBK/BioBookflowers.html" TargetMode="External"/><Relationship Id="rId5" Type="http://schemas.openxmlformats.org/officeDocument/2006/relationships/hyperlink" Target="http://www.emc.maricopa.edu/faculty/farabee/BIOBK/BioBookflowers.html" TargetMode="External"/><Relationship Id="rId6" Type="http://schemas.openxmlformats.org/officeDocument/2006/relationships/hyperlink" Target="http://www.emc.maricopa.edu/faculty/farabee/BIOBK/BioBookflowers.html" TargetMode="External"/><Relationship Id="rId7" Type="http://schemas.openxmlformats.org/officeDocument/2006/relationships/hyperlink" Target="http://www.emc.maricopa.edu/faculty/farabee/BIOBK/BioBookflowers.html" TargetMode="External"/><Relationship Id="rId8" Type="http://schemas.openxmlformats.org/officeDocument/2006/relationships/hyperlink" Target="http://www.emc.maricopa.edu/faculty/farabee/BIOBK/BioBookflowers.html" TargetMode="External"/><Relationship Id="rId9" Type="http://schemas.openxmlformats.org/officeDocument/2006/relationships/hyperlink" Target="http://www.emc.maricopa.edu/faculty/farabee/BIOBK/BioBookflowers.html" TargetMode="External"/><Relationship Id="rId10" Type="http://schemas.openxmlformats.org/officeDocument/2006/relationships/hyperlink" Target="http://www.emc.maricopa.edu/faculty/farabee/BIOBK/BioBookflowers.html" TargetMode="External"/><Relationship Id="rId11" Type="http://schemas.openxmlformats.org/officeDocument/2006/relationships/hyperlink" Target="http://www.emc.maricopa.edu/faculty/farabee/BIOBK/BioBookflowers.html" TargetMode="External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chool.discoveryeducation.com/clipart/clip/cutflowr.html" TargetMode="External"/><Relationship Id="rId3" Type="http://schemas.openxmlformats.org/officeDocument/2006/relationships/hyperlink" Target="http://school.discoveryeducation.com/clipart/clip/cutflowr.html" TargetMode="External"/><Relationship Id="rId4" Type="http://schemas.openxmlformats.org/officeDocument/2006/relationships/hyperlink" Target="http://school.discoveryeducation.com/clipart/clip/cutflowr.html" TargetMode="External"/><Relationship Id="rId5" Type="http://schemas.openxmlformats.org/officeDocument/2006/relationships/hyperlink" Target="http://school.discoveryeducation.com/clipart/clip/cutflowr.html" TargetMode="External"/><Relationship Id="rId6" Type="http://schemas.openxmlformats.org/officeDocument/2006/relationships/hyperlink" Target="http://school.discoveryeducation.com/clipart/clip/cutflowr.html" TargetMode="Externa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Plants and Flower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90920" y="2590920"/>
            <a:ext cx="5105160" cy="3843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51800" y="6491160"/>
            <a:ext cx="78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oto courtesy of </a:t>
            </a: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http://plants.ifas.ufl.edu/images/senpen/senpen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Verdana"/>
              </a:rPr>
              <a:t>Bailey (2009) Parts of a flowering plant, Retrieved March 17, 2009 from </a:t>
            </a:r>
            <a:r>
              <a:rPr b="0" lang="en-AU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biology.about.com/od/plantbiology/a/aa100507a.</a:t>
            </a:r>
            <a:r>
              <a:rPr b="0" lang="en-AU" sz="25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ht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Verdana"/>
                <a:ea typeface="Times New Roman"/>
              </a:rPr>
              <a:t>Farabee (2007) Flowering plant reproduction, Retrieved March 17, 2009 from</a:t>
            </a:r>
            <a:r>
              <a:rPr b="1" lang="en-AU" sz="25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</a:t>
            </a:r>
            <a:r>
              <a:rPr b="1" lang="en-AU" sz="2500" spc="-1" strike="noStrike" u="sng">
                <a:solidFill>
                  <a:srgbClr val="006666"/>
                </a:solidFill>
                <a:uFillTx/>
                <a:latin typeface="Verdana"/>
                <a:ea typeface="Times New Roman"/>
                <a:hlinkClick r:id="rId3"/>
              </a:rPr>
              <a:t>http://www.</a:t>
            </a:r>
            <a:r>
              <a:rPr b="1" lang="en-AU" sz="2500" spc="-1" strike="noStrike" u="sng">
                <a:solidFill>
                  <a:srgbClr val="006666"/>
                </a:solidFill>
                <a:uFillTx/>
                <a:latin typeface="Verdana"/>
                <a:ea typeface="Times New Roman"/>
                <a:hlinkClick r:id="rId4"/>
              </a:rPr>
              <a:t>emc</a:t>
            </a:r>
            <a:r>
              <a:rPr b="1" lang="en-AU" sz="2500" spc="-1" strike="noStrike" u="sng">
                <a:solidFill>
                  <a:srgbClr val="006666"/>
                </a:solidFill>
                <a:uFillTx/>
                <a:latin typeface="Verdana"/>
                <a:ea typeface="Times New Roman"/>
                <a:hlinkClick r:id="rId5"/>
              </a:rPr>
              <a:t>.</a:t>
            </a:r>
            <a:r>
              <a:rPr b="1" lang="en-AU" sz="2500" spc="-1" strike="noStrike" u="sng">
                <a:solidFill>
                  <a:srgbClr val="006666"/>
                </a:solidFill>
                <a:uFillTx/>
                <a:latin typeface="Verdana"/>
                <a:ea typeface="Times New Roman"/>
                <a:hlinkClick r:id="rId6"/>
              </a:rPr>
              <a:t>maricopa</a:t>
            </a:r>
            <a:r>
              <a:rPr b="1" lang="en-AU" sz="2500" spc="-1" strike="noStrike" u="sng">
                <a:solidFill>
                  <a:srgbClr val="006666"/>
                </a:solidFill>
                <a:uFillTx/>
                <a:latin typeface="Verdana"/>
                <a:ea typeface="Times New Roman"/>
                <a:hlinkClick r:id="rId7"/>
              </a:rPr>
              <a:t>.edu/faculty/</a:t>
            </a:r>
            <a:r>
              <a:rPr b="1" lang="en-AU" sz="2500" spc="-1" strike="noStrike" u="sng">
                <a:solidFill>
                  <a:srgbClr val="006666"/>
                </a:solidFill>
                <a:uFillTx/>
                <a:latin typeface="Verdana"/>
                <a:ea typeface="Times New Roman"/>
                <a:hlinkClick r:id="rId8"/>
              </a:rPr>
              <a:t>farabee</a:t>
            </a:r>
            <a:r>
              <a:rPr b="1" lang="en-AU" sz="2500" spc="-1" strike="noStrike" u="sng">
                <a:solidFill>
                  <a:srgbClr val="006666"/>
                </a:solidFill>
                <a:uFillTx/>
                <a:latin typeface="Verdana"/>
                <a:ea typeface="Times New Roman"/>
                <a:hlinkClick r:id="rId9"/>
              </a:rPr>
              <a:t>/BIOBK/</a:t>
            </a:r>
            <a:r>
              <a:rPr b="1" lang="en-AU" sz="2500" spc="-1" strike="noStrike" u="sng">
                <a:solidFill>
                  <a:srgbClr val="006666"/>
                </a:solidFill>
                <a:uFillTx/>
                <a:latin typeface="Verdana"/>
                <a:ea typeface="Times New Roman"/>
                <a:hlinkClick r:id="rId10"/>
              </a:rPr>
              <a:t>BioBookflowers</a:t>
            </a:r>
            <a:r>
              <a:rPr b="1" lang="en-AU" sz="2500" spc="-1" strike="noStrike" u="sng">
                <a:solidFill>
                  <a:srgbClr val="006666"/>
                </a:solidFill>
                <a:uFillTx/>
                <a:latin typeface="Verdana"/>
                <a:ea typeface="Times New Roman"/>
                <a:hlinkClick r:id="rId11"/>
              </a:rPr>
              <a:t>.html</a:t>
            </a:r>
            <a:r>
              <a:rPr b="0" lang="en-A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low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are flowers for? Have you ever thought about his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y are the reproductive part of a plant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other component of the shoot system of a flowering plant is the flower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low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flower is responsible for seed development and reproduction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e will talk about reproduction next lesson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e will cover seed development and dispersal next week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low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re are four main flower parts in angiosperms or flowering plant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pa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eta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mens (male part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arpels/pistils (female part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2190600" y="137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791320" y="4267080"/>
            <a:ext cx="2838240" cy="2443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6583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Clip art licensed from the Clip Art Gallery on DiscoverySchool.com" </a:t>
            </a:r>
            <a:r>
              <a:rPr b="0" lang="en-AU" sz="1200" spc="-1" strike="noStrike" u="sng">
                <a:solidFill>
                  <a:srgbClr val="006666"/>
                </a:solidFill>
                <a:uFillTx/>
                <a:latin typeface="Arial"/>
                <a:ea typeface="Times New Roman"/>
                <a:hlinkClick r:id="rId2"/>
              </a:rPr>
              <a:t>http://school.</a:t>
            </a:r>
            <a:r>
              <a:rPr b="0" lang="en-AU" sz="1200" spc="-1" strike="noStrike" u="sng">
                <a:solidFill>
                  <a:srgbClr val="006666"/>
                </a:solidFill>
                <a:uFillTx/>
                <a:latin typeface="Arial"/>
                <a:ea typeface="Times New Roman"/>
                <a:hlinkClick r:id="rId3"/>
              </a:rPr>
              <a:t>discoveryeducation</a:t>
            </a:r>
            <a:r>
              <a:rPr b="0" lang="en-AU" sz="1200" spc="-1" strike="noStrike" u="sng">
                <a:solidFill>
                  <a:srgbClr val="006666"/>
                </a:solidFill>
                <a:uFillTx/>
                <a:latin typeface="Arial"/>
                <a:ea typeface="Times New Roman"/>
                <a:hlinkClick r:id="rId4"/>
              </a:rPr>
              <a:t>.com/clipart/clip/</a:t>
            </a:r>
            <a:r>
              <a:rPr b="0" lang="en-AU" sz="1200" spc="-1" strike="noStrike" u="sng">
                <a:solidFill>
                  <a:srgbClr val="006666"/>
                </a:solidFill>
                <a:uFillTx/>
                <a:latin typeface="Arial"/>
                <a:ea typeface="Times New Roman"/>
                <a:hlinkClick r:id="rId5"/>
              </a:rPr>
              <a:t>cutflowr</a:t>
            </a:r>
            <a:r>
              <a:rPr b="0" lang="en-AU" sz="1200" spc="-1" strike="noStrike" u="sng">
                <a:solidFill>
                  <a:srgbClr val="006666"/>
                </a:solidFill>
                <a:uFillTx/>
                <a:latin typeface="Arial"/>
                <a:ea typeface="Times New Roman"/>
                <a:hlinkClick r:id="rId6"/>
              </a:rPr>
              <a:t>.html</a:t>
            </a: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lower parts 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– write down these notes in your books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Sepal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- green, leaf-like structure that protects the budding flower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Petal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- colourful and often scented part of the flower that attracts insect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Stamen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- the part of the flower that produces pollen. Consists of a filament and an anther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Anther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- sac located at the tip of the filament that contains pollen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Filament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- stalk that connects to and holds up the anther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Carpel/Pistil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- consists of the stigma, style, and ovary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Stigma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- the tip of the carpel that is sticky in order to collect pollen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Style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- the slender, neck-like portion of the carpel that leads to the ovary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Ovary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- structure at the base of the carpel that houses the ovule or egg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313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lower par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5" name="a_glossary_flower_parts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4709880" cy="6096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308640" y="155592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ke a look at this diagram in the top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low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hen the ovule becomes fertilized, it develops into a seed. The ovary, which surrounds the seed, becomes the fruit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lowers that contain both stamens and carpels are called perfect flowers. Flowers that are missing either stamens or carpels are called imperfect flower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f a flower contains all four main parts (sepals, petals, stamens, and carpels), it is called a complete flowe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Parts of a Flowering Plant: Summa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 summary, angiosperms are differentiated from other plants by their flowers and fru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Flowers – Questions for discussion 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hink about these questions and we will talk about them at the end.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Verdana"/>
              </a:rPr>
              <a:t>Which part of the flower is female and which part is male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Verdana"/>
              </a:rPr>
              <a:t>What are complete flowers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Verdana"/>
              </a:rPr>
              <a:t>What is a type of flower that is imperfect? We will look at one in our practical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500" spc="-1" strike="noStrike">
                <a:solidFill>
                  <a:srgbClr val="000000"/>
                </a:solidFill>
                <a:latin typeface="Verdana"/>
              </a:rPr>
              <a:t>What are pollinators? What do petals do? Colourful and showy to attract pollinator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500" spc="-1" strike="noStrike">
                <a:solidFill>
                  <a:srgbClr val="000000"/>
                </a:solidFill>
                <a:latin typeface="Verdana"/>
              </a:rPr>
              <a:t>What are the most common colours of flowers?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500" spc="-1" strike="noStrike">
                <a:solidFill>
                  <a:srgbClr val="000000"/>
                </a:solidFill>
                <a:latin typeface="Verdana"/>
              </a:rPr>
              <a:t>Why are these colours the most common?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hat is next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w go back to your wiki and print off the method for your practical and the worksheet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egin doing your practical.  I will help with the practical if you get stuck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e will have a discussion at the end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talie Meszes</cp:lastModifiedBy>
  <dcterms:modified xsi:type="dcterms:W3CDTF">2009-04-30T05:23:2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